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C6C90-9D84-4F96-B7F8-E271A5A664D7}" type="datetime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25360" y="684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67A9C-61B8-4734-BB82-1F9D4EF8B090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B3290-D7C3-4E96-A88F-A079D1EE6EE9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2536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79C9B9-D15B-4E6A-8100-D18CF5DE20B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26560" y="2516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74C0F9-B4E1-4CB8-AF9F-D0A58527F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26560" y="2516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8E7837-9A8F-4159-8AB9-A84B545A0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26560" y="2516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7902AB-4666-4327-B39E-149E188B268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26560" y="2516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26560" y="2516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26560" y="2516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26560" y="2516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26560" y="260280"/>
            <a:ext cx="80773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26560" y="2516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6560" y="2516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9A893C-C630-494C-818A-C191C220F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26560" y="2516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26560" y="2516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26560" y="2516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26560" y="2516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26560" y="2516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26560" y="2516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89145E-B1B7-4CC4-AC68-F765231E6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26560" y="2516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74DEFD-4E9D-460C-9D91-5CD262FD5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26560" y="2516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E15D68-6209-470F-B508-70F33E007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26560" y="260280"/>
            <a:ext cx="80773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3BAF02-5A31-4151-B7F1-B00E4A37D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6560" y="2516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C710AD-E18E-4462-9D03-E238097BB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6560" y="2516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F1B1C5-D30C-41F5-A65D-2D98157B6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6560" y="2516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763793-0B02-4A7B-83E1-397B2C06E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19640" y="6549840"/>
            <a:ext cx="21333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10580-48C4-4B97-9B98-E20BDEBA15E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265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39528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08414-D13C-4847-AD40-4C7822ABD2BA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29</a:t>
            </a:fld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9280"/>
              <a:ext cx="9115560" cy="1818360"/>
              <a:chOff x="28440" y="5039280"/>
              <a:chExt cx="9115560" cy="181836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9280"/>
                <a:ext cx="9115560" cy="1818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928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265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镇静催眠药</a:t>
            </a: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ab1101"/>
              </a:solidFill>
              <a:latin typeface="Verdana"/>
              <a:ea typeface="宋体"/>
            </a:endParaRPr>
          </a:p>
        </p:txBody>
      </p:sp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3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．抗惊厥和抗癫痫作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19080" y="2103120"/>
            <a:ext cx="3456000" cy="3166920"/>
          </a:xfrm>
          <a:prstGeom prst="rect">
            <a:avLst/>
          </a:prstGeom>
          <a:noFill/>
          <a:ln w="9360">
            <a:solidFill>
              <a:srgbClr val="a50021"/>
            </a:solidFill>
            <a:prstDash val="lgDash"/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抗惊厥作用较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抑制病灶异常放电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外扩散，而不能消除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灶的异常放电；其作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与增强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GABA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能神经递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质的抑制效应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" name="Rectangle 4"/>
          <p:cNvSpPr/>
          <p:nvPr/>
        </p:nvSpPr>
        <p:spPr>
          <a:xfrm>
            <a:off x="4859280" y="2133720"/>
            <a:ext cx="3384720" cy="3168360"/>
          </a:xfrm>
          <a:prstGeom prst="rect">
            <a:avLst/>
          </a:prstGeom>
          <a:noFill/>
          <a:ln w="9360">
            <a:solidFill>
              <a:srgbClr val="a50021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抗癫痫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地西泮对癫痫大发作的疗效好，静注安定是治疗癫痫持续状态的首选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4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．中枢骨骼肌松弛作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9080" y="2103480"/>
            <a:ext cx="763272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Verdana"/>
                <a:ea typeface="宋体"/>
              </a:rPr>
              <a:t>肌松作用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较强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500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Verdana"/>
                <a:ea typeface="宋体"/>
              </a:rPr>
              <a:t>小剂量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抑制脑干网状结构下行激活系统对脊髓运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动神经元的激活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500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Verdana"/>
                <a:ea typeface="宋体"/>
              </a:rPr>
              <a:t>大剂量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增强脊髓突触前抑制，而不影响突触后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制，从而抑制多突触反射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5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．其他作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58720" y="1598760"/>
            <a:ext cx="8142480" cy="2449440"/>
          </a:xfrm>
          <a:prstGeom prst="rect">
            <a:avLst/>
          </a:prstGeom>
          <a:noFill/>
          <a:ln w="9360">
            <a:solidFill>
              <a:srgbClr val="a50021"/>
            </a:solidFill>
            <a:prstDash val="lgDash"/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1500"/>
              </a:spcBef>
              <a:buClr>
                <a:srgbClr val="cc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可加强麻醉药的抑制作用，临床用于麻醉前给药，优于吗啡和氯丙嗪，不良反应少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1500"/>
              </a:spcBef>
              <a:buClr>
                <a:srgbClr val="cc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可加强巴比妥类和酒精的抑制作用，与巴比妥类合用使镇静催眠作用增强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BDZ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因有镇静催眠和引起暂时记忆缺失，临床常用于心脏电击复律和内窥镜检查前用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Rectangle 4"/>
          <p:cNvSpPr/>
          <p:nvPr/>
        </p:nvSpPr>
        <p:spPr>
          <a:xfrm>
            <a:off x="539640" y="4508640"/>
            <a:ext cx="8137800" cy="1381680"/>
          </a:xfrm>
          <a:prstGeom prst="rect">
            <a:avLst/>
          </a:prstGeom>
          <a:noFill/>
          <a:ln w="9360">
            <a:solidFill>
              <a:srgbClr val="a50021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  <a:ea typeface="宋体"/>
              </a:rPr>
              <a:t>治疗量：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BDZ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对心血管系统无明显影响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cc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  <a:ea typeface="宋体"/>
              </a:rPr>
              <a:t>大剂量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尤其是静脉注射时，可使心率加快，心搏出量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少，血压轻度降低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（三）临床应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30000" y="2319480"/>
            <a:ext cx="8064360" cy="35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应用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适用于焦虑症、焦虑性抑郁、各种躯体 疾病如脑血管病等疾病引起的焦虑状态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749"/>
              </a:spcBef>
              <a:spcAft>
                <a:spcPts val="1749"/>
              </a:spcAft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用药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周后见效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周疗效明显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常用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地西泮、氯氮卓、奥沙西泮、阿普唑仑、劳拉西泮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Rectangle 4"/>
          <p:cNvSpPr/>
          <p:nvPr/>
        </p:nvSpPr>
        <p:spPr>
          <a:xfrm>
            <a:off x="3905280" y="1461960"/>
            <a:ext cx="146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  <a:ea typeface="宋体"/>
              </a:rPr>
              <a:t>1. 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宋体"/>
              </a:rPr>
              <a:t>抗焦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324000" y="2276640"/>
            <a:ext cx="861048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cc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）应用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对各种原因引起的失眠有效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749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入睡困难者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选用半衰期短的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BDZ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，如三唑仑、阿普唑仑、舒宁等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749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早醒者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可选用</a:t>
            </a:r>
            <a:r>
              <a:rPr b="1" i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1/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长的，如硝基安定、氟安定、氯硝安定、舒乐安定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cc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）防止产生药物依赖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用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BDZ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治疗应间断用药或交替用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Rectangle 4"/>
          <p:cNvSpPr/>
          <p:nvPr/>
        </p:nvSpPr>
        <p:spPr>
          <a:xfrm>
            <a:off x="3751920" y="1197000"/>
            <a:ext cx="191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  <a:ea typeface="宋体"/>
              </a:rPr>
              <a:t>2</a:t>
            </a: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宋体"/>
              </a:rPr>
              <a:t>．治疗失眠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26560" y="2516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33160" y="2421000"/>
            <a:ext cx="835956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选用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地西泮、硝西泮、阿普唑仑、氯硝西泮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749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癫痫大发作或持续状态：可立即静脉注射地西泮或肌内注射氯硝泮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" name="Rectangle 4"/>
          <p:cNvSpPr/>
          <p:nvPr/>
        </p:nvSpPr>
        <p:spPr>
          <a:xfrm>
            <a:off x="3303360" y="1268280"/>
            <a:ext cx="245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  <a:ea typeface="宋体"/>
              </a:rPr>
              <a:t>3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宋体"/>
              </a:rPr>
              <a:t>．抗惊厥及抗癫痫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26560" y="2516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350720" y="2750760"/>
            <a:ext cx="735156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常用地西泮，术前服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0mg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也可用劳拉西泮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0 mg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2" name="Rectangle 4"/>
          <p:cNvSpPr/>
          <p:nvPr/>
        </p:nvSpPr>
        <p:spPr>
          <a:xfrm>
            <a:off x="3283920" y="1484280"/>
            <a:ext cx="19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  <a:ea typeface="宋体"/>
              </a:rPr>
              <a:t>4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宋体"/>
              </a:rPr>
              <a:t>．麻醉前用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edg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（四）不良反应和药疗监护须知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24000" y="1483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1.  </a:t>
            </a: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毒性小，安全性大，很少由于用量过大引起死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500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Verdana"/>
                <a:ea typeface="宋体"/>
              </a:rPr>
              <a:t>治疗量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常见的不良反应有轻度头晕、乏力、困倦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500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Verdana"/>
                <a:ea typeface="宋体"/>
              </a:rPr>
              <a:t>大剂量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可导致共济失调、意识障碍、口齿不清、精神错乱严重时可引起昏迷及呼吸抑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500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Verdana"/>
                <a:ea typeface="宋体"/>
              </a:rPr>
              <a:t>其他常见的不良反应有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口干、腹泻、便秘、视力模糊等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749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Verdana"/>
                <a:ea typeface="宋体"/>
              </a:rPr>
              <a:t>不宜静脉推注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：易形成静脉炎或静脉血栓，可从输液管内缓慢推入，一次量勿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超过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0 m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小时量不超过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0m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以免呼吸抑制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26560" y="2516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42720" y="1453680"/>
            <a:ext cx="8351640" cy="472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2. 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易产生耐受性和依赖性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925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不仅有精神依赖，也有躯体依赖，一旦停药即产生戒断症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925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一般在连续用药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个月即可产生，戒断症状多在停药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天发生。为防止发生戒断症状，要逐渐减药，不可突然停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edg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26560" y="2516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50560" y="1773360"/>
            <a:ext cx="82818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3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．地西泮长期应用可引起畸胎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孕妇禁用。在分娩前及分娩时，如服用大剂量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BDZ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药物，可引起新生儿体温下降，肌力下降及呼吸抑制，甚至产生戒断症状。因此，孕妇及产妇均不可长期滥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BDZ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类药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11280" y="2060640"/>
            <a:ext cx="792000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b12217"/>
                </a:solidFill>
                <a:latin typeface="Verdana"/>
                <a:ea typeface="宋体"/>
              </a:rPr>
              <a:t>掌握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苯二氮</a:t>
            </a:r>
            <a:r>
              <a:rPr b="1" lang="zh-CN" sz="2800" spc="-1" strike="noStrike">
                <a:solidFill>
                  <a:srgbClr val="b12217"/>
                </a:solidFill>
                <a:latin typeface="Verdana"/>
                <a:ea typeface="宋体"/>
              </a:rPr>
              <a:t>卓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类药物的药理作用、临床应用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良反应和药疗监护事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b12217"/>
                </a:solidFill>
                <a:latin typeface="Verdana"/>
                <a:ea typeface="宋体"/>
              </a:rPr>
              <a:t>熟悉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巴比妥类药物的作用特点、临床应用不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反应和药疗监护事项、急性中毒的解救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b12217"/>
                </a:solidFill>
                <a:latin typeface="Verdana"/>
                <a:ea typeface="宋体"/>
              </a:rPr>
              <a:t>了解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其他镇静催眠药的作用特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edg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表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12-1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常用苯二氮䓬类药物和用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179280" y="720720"/>
          <a:ext cx="8856720" cy="5891040"/>
        </p:xfrm>
        <a:graphic>
          <a:graphicData uri="http://schemas.openxmlformats.org/drawingml/2006/table">
            <a:tbl>
              <a:tblPr/>
              <a:tblGrid>
                <a:gridCol w="3148200"/>
                <a:gridCol w="570852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药物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a50021"/>
                      </a:solidFill>
                    </a:lnT>
                    <a:lnB w="5760">
                      <a:solidFill>
                        <a:srgbClr val="a5002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剂量和用法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a50021"/>
                      </a:solidFill>
                    </a:lnT>
                    <a:lnB w="5760">
                      <a:solidFill>
                        <a:srgbClr val="a50021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地西泮（安定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diazepam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a50021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抗焦虑、镇静：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.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mg/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次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次</a:t>
                      </a: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宋体"/>
                        </a:rPr>
                        <a:t>/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日，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癫痫持续状态：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0mg/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次，缓慢静注，再发作可反复应用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a50021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氯氮䓬（利眠宁）</a:t>
                      </a:r>
                      <a:r>
                        <a:rPr b="0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chlordiazepoxide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抗焦虑、镇静：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0mg/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次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次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/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日，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催眠：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0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0mg/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次，睡前服。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奥沙西泮（舒宁）（去甲羟基安定）</a:t>
                      </a:r>
                      <a:r>
                        <a:rPr b="0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oxazepam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抗焦虑：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5mg/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次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次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/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日，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催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5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0mg/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次，睡前服。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劳拉西泮（罗拉）（氯羟安定）</a:t>
                      </a:r>
                      <a:r>
                        <a:rPr b="0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lorazepam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催眠：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mg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睡前服，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抗焦虑：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.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mg/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次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次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/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日。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氟西泮（氟安定）</a:t>
                      </a:r>
                      <a:r>
                        <a:rPr b="0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flurazepam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胶囊剂催眠：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5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0mg/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次，睡前服。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硝西泮（硝基安定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nitrtazepam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催眠：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0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0mg/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次，睡前服，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抗癫痫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0mg/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次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次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/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日。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氯硝西泮（氯硝基安定）</a:t>
                      </a:r>
                      <a:r>
                        <a:rPr b="0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clonazepam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催眠：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mg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，睡前服：抗癫痫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.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0mg/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日，分次服，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严重失眠及兴奋时，可注射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mg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，睡前。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三唑仑（海洛神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triazolam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催眠：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.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.0mg/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次，睡前服。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形成依赖快，应短期用药。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艾司唑仑（舒乐安定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estazolam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催眠：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mg/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次，睡前服，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抗癫痫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4 mg/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次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次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/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日。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阿普唑仑（佳乐定、佳静安定）</a:t>
                      </a:r>
                      <a:r>
                        <a:rPr b="0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elprazolam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a5002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抗焦虑：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.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4 mg/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次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次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/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日；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催眠：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.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8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.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 mg/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次，睡前服。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a50021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edg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二节   巴比妥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55280" y="1773360"/>
            <a:ext cx="777708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-711360">
              <a:lnSpc>
                <a:spcPct val="110000"/>
              </a:lnSpc>
              <a:spcBef>
                <a:spcPts val="2001"/>
              </a:spcBef>
              <a:buClr>
                <a:srgbClr val="a50021"/>
              </a:buClr>
              <a:buFont typeface="Wingdings" charset="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Verdana"/>
                <a:ea typeface="宋体"/>
              </a:rPr>
              <a:t>巴比妥类分类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711360" indent="-711360">
              <a:lnSpc>
                <a:spcPct val="110000"/>
              </a:lnSpc>
              <a:spcBef>
                <a:spcPts val="1749"/>
              </a:spcBef>
              <a:buClr>
                <a:srgbClr val="a5002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长效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-711360">
              <a:lnSpc>
                <a:spcPct val="110000"/>
              </a:lnSpc>
              <a:spcBef>
                <a:spcPts val="1749"/>
              </a:spcBef>
              <a:buClr>
                <a:srgbClr val="a5002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中效类      </a:t>
            </a:r>
            <a:r>
              <a:rPr b="1" lang="zh-CN" sz="2800" spc="-1" strike="noStrike">
                <a:solidFill>
                  <a:srgbClr val="a50021"/>
                </a:solidFill>
                <a:latin typeface="Times New Roman"/>
                <a:ea typeface="宋体"/>
              </a:rPr>
              <a:t>详见表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  <a:ea typeface="宋体"/>
              </a:rPr>
              <a:t>12-2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-711360">
              <a:lnSpc>
                <a:spcPct val="110000"/>
              </a:lnSpc>
              <a:spcBef>
                <a:spcPts val="1749"/>
              </a:spcBef>
              <a:buClr>
                <a:srgbClr val="a5002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短效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-711360">
              <a:lnSpc>
                <a:spcPct val="110000"/>
              </a:lnSpc>
              <a:spcBef>
                <a:spcPts val="1749"/>
              </a:spcBef>
              <a:buClr>
                <a:srgbClr val="a5002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超短效类：</a:t>
            </a: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有硫喷妥钠，静注后立即生效。临床应用作为静脉麻醉，而不作催眠药使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3" name="AutoShape 4"/>
          <p:cNvSpPr/>
          <p:nvPr/>
        </p:nvSpPr>
        <p:spPr>
          <a:xfrm>
            <a:off x="2771640" y="2781360"/>
            <a:ext cx="216000" cy="1655640"/>
          </a:xfrm>
          <a:custGeom>
            <a:avLst/>
            <a:gdLst>
              <a:gd name="textAreaLeft" fmla="*/ 0 w 216000"/>
              <a:gd name="textAreaRight" fmla="*/ 78120 w 216000"/>
              <a:gd name="textAreaTop" fmla="*/ 42840 h 1655640"/>
              <a:gd name="textAreaBottom" fmla="*/ 1612800 h 165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edg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4360" y="69192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Times New Roman"/>
                <a:ea typeface="宋体"/>
              </a:rPr>
              <a:t>表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  <a:ea typeface="宋体"/>
              </a:rPr>
              <a:t>12-2</a:t>
            </a:r>
            <a:r>
              <a:rPr b="1" lang="zh-CN" sz="3200" spc="-1" strike="noStrike">
                <a:solidFill>
                  <a:srgbClr val="a50021"/>
                </a:solidFill>
                <a:latin typeface="Times New Roman"/>
                <a:ea typeface="宋体"/>
              </a:rPr>
              <a:t>常用巴比妥类的分类、作用时间和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50920" y="1484280"/>
          <a:ext cx="8610480" cy="4888080"/>
        </p:xfrm>
        <a:graphic>
          <a:graphicData uri="http://schemas.openxmlformats.org/drawingml/2006/table">
            <a:tbl>
              <a:tblPr/>
              <a:tblGrid>
                <a:gridCol w="863640"/>
                <a:gridCol w="3240000"/>
                <a:gridCol w="1512720"/>
                <a:gridCol w="1654200"/>
                <a:gridCol w="1339920"/>
              </a:tblGrid>
              <a:tr h="1008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分类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a50021"/>
                      </a:solidFill>
                    </a:lnT>
                    <a:lnB w="5760">
                      <a:solidFill>
                        <a:srgbClr val="a5002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药名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a50021"/>
                      </a:solidFill>
                    </a:lnT>
                    <a:lnB w="5760">
                      <a:solidFill>
                        <a:srgbClr val="a5002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疗效出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现时间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a50021"/>
                      </a:solidFill>
                    </a:lnT>
                    <a:lnB w="5760">
                      <a:solidFill>
                        <a:srgbClr val="a5002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作用持续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时间（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h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a50021"/>
                      </a:solidFill>
                    </a:lnT>
                    <a:lnB w="5760">
                      <a:solidFill>
                        <a:srgbClr val="a5002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催眠剂量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（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g/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次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a50021"/>
                      </a:solidFill>
                    </a:lnT>
                    <a:lnB w="5760">
                      <a:solidFill>
                        <a:srgbClr val="a50021"/>
                      </a:solidFill>
                    </a:lnB>
                    <a:noFill/>
                  </a:tcPr>
                </a:tc>
              </a:tr>
              <a:tr h="7034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长效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a50021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巴比妥（</a:t>
                      </a:r>
                      <a:r>
                        <a:rPr b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barbiturate</a:t>
                      </a:r>
                      <a:r>
                        <a:rPr b="1" lang="zh-CN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a50021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.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h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a50021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6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8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a50021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.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.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6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a50021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73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苯巴比妥（</a:t>
                      </a:r>
                      <a:r>
                        <a:rPr b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phenobarbital,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鲁米那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.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h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6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8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.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6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.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7034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中效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戊巴比妥（</a:t>
                      </a:r>
                      <a:r>
                        <a:rPr b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phenobarbital</a:t>
                      </a:r>
                      <a:r>
                        <a:rPr b="1" lang="zh-CN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5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0min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6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.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5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.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73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异</a:t>
                      </a:r>
                      <a:r>
                        <a:rPr b="1" lang="zh-CN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戊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巴比妥（</a:t>
                      </a:r>
                      <a:r>
                        <a:rPr b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amobarbital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,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阿米妥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5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0min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6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.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.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 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短效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a5002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司可巴比妥（</a:t>
                      </a:r>
                      <a:r>
                        <a:rPr b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secoharbital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，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速可眠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a5002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5min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a5002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a5002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.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.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a50021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edg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二、药理作用及作用机制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19080" y="1453680"/>
            <a:ext cx="7507440" cy="30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1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．中枢神经系统抑制作用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2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．抗惊厥作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3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．对呼吸系统的作用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4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．对其他系统的影响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8" name="Rectangle 4"/>
          <p:cNvSpPr/>
          <p:nvPr/>
        </p:nvSpPr>
        <p:spPr>
          <a:xfrm>
            <a:off x="395280" y="5018040"/>
            <a:ext cx="8280360" cy="1117800"/>
          </a:xfrm>
          <a:prstGeom prst="rect">
            <a:avLst/>
          </a:prstGeom>
          <a:noFill/>
          <a:ln w="9360">
            <a:solidFill>
              <a:srgbClr val="a50021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34308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3314880"/>
                <a:tab algn="l" pos="3467160"/>
                <a:tab algn="l" pos="45147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巴比妥类药物长期或较大剂量应用时，不良反应大，安全性差，目前已较少应用，被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BDZ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所取代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edg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Line 2"/>
          <p:cNvSpPr/>
          <p:nvPr/>
        </p:nvSpPr>
        <p:spPr>
          <a:xfrm>
            <a:off x="1835280" y="1700280"/>
            <a:ext cx="0" cy="914400"/>
          </a:xfrm>
          <a:prstGeom prst="line">
            <a:avLst/>
          </a:prstGeom>
          <a:ln cap="sq" w="76320">
            <a:solidFill>
              <a:srgbClr val="d6009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Line 3"/>
          <p:cNvSpPr/>
          <p:nvPr/>
        </p:nvSpPr>
        <p:spPr>
          <a:xfrm>
            <a:off x="2556000" y="1700280"/>
            <a:ext cx="0" cy="914400"/>
          </a:xfrm>
          <a:prstGeom prst="line">
            <a:avLst/>
          </a:prstGeom>
          <a:ln cap="sq" w="76320">
            <a:solidFill>
              <a:srgbClr val="d6009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Line 4"/>
          <p:cNvSpPr/>
          <p:nvPr/>
        </p:nvSpPr>
        <p:spPr>
          <a:xfrm>
            <a:off x="3924360" y="1700280"/>
            <a:ext cx="0" cy="914400"/>
          </a:xfrm>
          <a:prstGeom prst="line">
            <a:avLst/>
          </a:prstGeom>
          <a:ln cap="sq" w="76320">
            <a:solidFill>
              <a:srgbClr val="d6009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Line 5"/>
          <p:cNvSpPr/>
          <p:nvPr/>
        </p:nvSpPr>
        <p:spPr>
          <a:xfrm>
            <a:off x="4932360" y="1700280"/>
            <a:ext cx="0" cy="914400"/>
          </a:xfrm>
          <a:prstGeom prst="line">
            <a:avLst/>
          </a:prstGeom>
          <a:ln cap="sq" w="76320">
            <a:solidFill>
              <a:srgbClr val="d6009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Line 6"/>
          <p:cNvSpPr/>
          <p:nvPr/>
        </p:nvSpPr>
        <p:spPr>
          <a:xfrm>
            <a:off x="5651640" y="1700280"/>
            <a:ext cx="0" cy="914400"/>
          </a:xfrm>
          <a:prstGeom prst="line">
            <a:avLst/>
          </a:prstGeom>
          <a:ln cap="sq" w="76320">
            <a:solidFill>
              <a:srgbClr val="d6009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Text Box 7"/>
          <p:cNvSpPr/>
          <p:nvPr/>
        </p:nvSpPr>
        <p:spPr>
          <a:xfrm>
            <a:off x="1432080" y="5410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Text Box 8"/>
          <p:cNvSpPr/>
          <p:nvPr/>
        </p:nvSpPr>
        <p:spPr>
          <a:xfrm>
            <a:off x="1619280" y="2924280"/>
            <a:ext cx="511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静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Text Box 9"/>
          <p:cNvSpPr/>
          <p:nvPr/>
        </p:nvSpPr>
        <p:spPr>
          <a:xfrm>
            <a:off x="2362320" y="53341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Text Box 10"/>
          <p:cNvSpPr/>
          <p:nvPr/>
        </p:nvSpPr>
        <p:spPr>
          <a:xfrm>
            <a:off x="2340000" y="2924280"/>
            <a:ext cx="5335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催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Text Box 11"/>
          <p:cNvSpPr/>
          <p:nvPr/>
        </p:nvSpPr>
        <p:spPr>
          <a:xfrm>
            <a:off x="2987640" y="2852640"/>
            <a:ext cx="533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抗惊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Text Box 12"/>
          <p:cNvSpPr/>
          <p:nvPr/>
        </p:nvSpPr>
        <p:spPr>
          <a:xfrm>
            <a:off x="3635280" y="2852640"/>
            <a:ext cx="457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Line 13"/>
          <p:cNvSpPr/>
          <p:nvPr/>
        </p:nvSpPr>
        <p:spPr>
          <a:xfrm>
            <a:off x="3276720" y="1700280"/>
            <a:ext cx="0" cy="914400"/>
          </a:xfrm>
          <a:prstGeom prst="line">
            <a:avLst/>
          </a:prstGeom>
          <a:ln cap="sq" w="76320">
            <a:solidFill>
              <a:srgbClr val="d6009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Text Box 14"/>
          <p:cNvSpPr/>
          <p:nvPr/>
        </p:nvSpPr>
        <p:spPr>
          <a:xfrm>
            <a:off x="3995640" y="2852640"/>
            <a:ext cx="609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00"/>
                </a:solidFill>
                <a:latin typeface="Times New Roman"/>
                <a:ea typeface="宋体"/>
              </a:rPr>
              <a:t>苯巴比妥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Text Box 15"/>
          <p:cNvSpPr/>
          <p:nvPr/>
        </p:nvSpPr>
        <p:spPr>
          <a:xfrm>
            <a:off x="4643280" y="2924280"/>
            <a:ext cx="609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3" name="Text Box 16"/>
          <p:cNvSpPr/>
          <p:nvPr/>
        </p:nvSpPr>
        <p:spPr>
          <a:xfrm>
            <a:off x="5364000" y="2924280"/>
            <a:ext cx="5335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Text Box 17"/>
          <p:cNvSpPr/>
          <p:nvPr/>
        </p:nvSpPr>
        <p:spPr>
          <a:xfrm>
            <a:off x="6877080" y="256536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剂 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Line 18"/>
          <p:cNvSpPr/>
          <p:nvPr/>
        </p:nvSpPr>
        <p:spPr>
          <a:xfrm>
            <a:off x="1476360" y="2708280"/>
            <a:ext cx="5327640" cy="0"/>
          </a:xfrm>
          <a:prstGeom prst="line">
            <a:avLst/>
          </a:prstGeom>
          <a:ln cap="sq" w="7632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Rectangle 19"/>
          <p:cNvSpPr/>
          <p:nvPr/>
        </p:nvSpPr>
        <p:spPr>
          <a:xfrm>
            <a:off x="4084560" y="333360"/>
            <a:ext cx="356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1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．中枢神经系统抑制作用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250920" y="4652640"/>
            <a:ext cx="861048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Verdana"/>
                <a:ea typeface="宋体"/>
              </a:rPr>
              <a:t>　   随剂量加大，抑制作用由浅入深相继发生镇静、催眠、抗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Verdana"/>
                <a:ea typeface="宋体"/>
              </a:rPr>
              <a:t>惊厥和麻醉作用。巴比妥类药物选择性抑制脑干网状结构上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Verdana"/>
                <a:ea typeface="宋体"/>
              </a:rPr>
              <a:t>激活系统，促进</a:t>
            </a:r>
            <a:r>
              <a:rPr b="1" lang="en-US" sz="2400" spc="-1" strike="noStrike">
                <a:solidFill>
                  <a:srgbClr val="000066"/>
                </a:solidFill>
                <a:latin typeface="Verdana"/>
                <a:ea typeface="宋体"/>
              </a:rPr>
              <a:t>GABA</a:t>
            </a:r>
            <a:r>
              <a:rPr b="1" lang="zh-CN" sz="2400" spc="-1" strike="noStrike">
                <a:solidFill>
                  <a:srgbClr val="000066"/>
                </a:solidFill>
                <a:latin typeface="Verdana"/>
                <a:ea typeface="宋体"/>
              </a:rPr>
              <a:t>能神经的抑制性效应，增强</a:t>
            </a:r>
            <a:r>
              <a:rPr b="1" lang="en-US" sz="2400" spc="-1" strike="noStrike">
                <a:solidFill>
                  <a:srgbClr val="000066"/>
                </a:solidFill>
                <a:latin typeface="Verdana"/>
                <a:ea typeface="宋体"/>
              </a:rPr>
              <a:t>GABA</a:t>
            </a:r>
            <a:r>
              <a:rPr b="1" lang="zh-CN" sz="2400" spc="-1" strike="noStrike">
                <a:solidFill>
                  <a:srgbClr val="000066"/>
                </a:solidFill>
                <a:latin typeface="Verdana"/>
                <a:ea typeface="宋体"/>
              </a:rPr>
              <a:t>的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Verdana"/>
                <a:ea typeface="宋体"/>
              </a:rPr>
              <a:t>触后抑制功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000"/>
                            </p:stCondLst>
                            <p:childTnLst>
                              <p:par>
                                <p:cTn id="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324000" y="1341000"/>
            <a:ext cx="8610480" cy="1871640"/>
          </a:xfrm>
          <a:prstGeom prst="rect">
            <a:avLst/>
          </a:prstGeom>
          <a:noFill/>
          <a:ln w="9360">
            <a:solidFill>
              <a:srgbClr val="cc0000"/>
            </a:solidFill>
            <a:prstDash val="lgDash"/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spcAft>
                <a:spcPts val="22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Verdana"/>
                <a:ea typeface="宋体"/>
              </a:rPr>
              <a:t>2</a:t>
            </a:r>
            <a:r>
              <a:rPr b="1" lang="zh-CN" sz="3600" spc="-1" strike="noStrike">
                <a:solidFill>
                  <a:srgbClr val="cc0000"/>
                </a:solidFill>
                <a:latin typeface="Verdana"/>
                <a:ea typeface="宋体"/>
              </a:rPr>
              <a:t>．抗惊厥作用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Verdana"/>
                <a:ea typeface="宋体"/>
              </a:rPr>
              <a:t>苯巴比妥：有效的抗惊厥药物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9" name="Rectangle 5"/>
          <p:cNvSpPr/>
          <p:nvPr/>
        </p:nvSpPr>
        <p:spPr>
          <a:xfrm>
            <a:off x="324000" y="3716280"/>
            <a:ext cx="8610480" cy="2521080"/>
          </a:xfrm>
          <a:prstGeom prst="rect">
            <a:avLst/>
          </a:prstGeom>
          <a:noFill/>
          <a:ln w="9360">
            <a:solidFill>
              <a:srgbClr val="cc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Verdana"/>
                <a:ea typeface="宋体"/>
              </a:rPr>
              <a:t> </a:t>
            </a:r>
            <a:r>
              <a:rPr b="1" lang="en-US" sz="3600" spc="-1" strike="noStrike">
                <a:solidFill>
                  <a:srgbClr val="cc0000"/>
                </a:solidFill>
                <a:latin typeface="Verdana"/>
                <a:ea typeface="宋体"/>
              </a:rPr>
              <a:t>3</a:t>
            </a:r>
            <a:r>
              <a:rPr b="1" lang="zh-CN" sz="3600" spc="-1" strike="noStrike">
                <a:solidFill>
                  <a:srgbClr val="cc0000"/>
                </a:solidFill>
                <a:latin typeface="Verdana"/>
                <a:ea typeface="宋体"/>
              </a:rPr>
              <a:t>．对呼吸系统的作用</a:t>
            </a:r>
            <a:r>
              <a:rPr b="1" lang="zh-CN" sz="3200" spc="-1" strike="noStrike">
                <a:solidFill>
                  <a:srgbClr val="cc0000"/>
                </a:solidFill>
                <a:latin typeface="Verdana"/>
                <a:ea typeface="宋体"/>
              </a:rPr>
              <a:t>　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Verdana"/>
                <a:ea typeface="宋体"/>
              </a:rPr>
              <a:t>    </a:t>
            </a:r>
            <a:r>
              <a:rPr b="1" lang="zh-CN" sz="3200" spc="-1" strike="noStrike">
                <a:solidFill>
                  <a:srgbClr val="cc0000"/>
                </a:solidFill>
                <a:latin typeface="Verdana"/>
                <a:ea typeface="宋体"/>
              </a:rPr>
              <a:t>中毒剂量</a:t>
            </a:r>
            <a:r>
              <a:rPr b="1" lang="zh-CN" sz="3200" spc="-1" strike="noStrike">
                <a:solidFill>
                  <a:srgbClr val="000066"/>
                </a:solidFill>
                <a:latin typeface="Verdana"/>
                <a:ea typeface="宋体"/>
              </a:rPr>
              <a:t>明显降低呼吸频率、呼吸深度及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Verdana"/>
                <a:ea typeface="宋体"/>
              </a:rPr>
              <a:t>气量，由于药物对延脑的抑制作用所致，是巴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Verdana"/>
                <a:ea typeface="宋体"/>
              </a:rPr>
              <a:t>比妥类中毒的死因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edg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4360" y="148428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Verdana"/>
                <a:ea typeface="宋体"/>
              </a:rPr>
              <a:t>4</a:t>
            </a:r>
            <a:r>
              <a:rPr b="1" lang="zh-CN" sz="3600" spc="-1" strike="noStrike">
                <a:solidFill>
                  <a:srgbClr val="cc0000"/>
                </a:solidFill>
                <a:latin typeface="Verdana"/>
                <a:ea typeface="宋体"/>
              </a:rPr>
              <a:t>．对其他系统的影响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755280" y="2923920"/>
            <a:ext cx="7278840" cy="30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胃肠道蠕动减弱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中毒剂量引起严重低血压及心肌损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对肝、肾功能均有不良影响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edg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三、临床应用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24000" y="2349360"/>
            <a:ext cx="8610480" cy="346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．镇静催眠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：巴比妥类药物小剂量应用，产生镇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作用，可用于治疗焦虑、高血压、甲状腺功能亢                         进等患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．抗癫痫及抗惊厥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常用药为苯巴比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．麻醉用药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：硫喷妥钠作为静脉麻醉应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edg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四、不良反应和药疗监护须知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24000" y="1125000"/>
            <a:ext cx="88200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Verdana"/>
                <a:ea typeface="宋体"/>
              </a:rPr>
              <a:t>1</a:t>
            </a:r>
            <a:r>
              <a:rPr b="1" lang="zh-CN" sz="2000" spc="-1" strike="noStrike">
                <a:solidFill>
                  <a:srgbClr val="cc0000"/>
                </a:solidFill>
                <a:latin typeface="Verdana"/>
                <a:ea typeface="宋体"/>
              </a:rPr>
              <a:t>．后遗作用：</a:t>
            </a:r>
            <a:r>
              <a:rPr b="1" lang="zh-CN" sz="2000" spc="-1" strike="noStrike">
                <a:solidFill>
                  <a:srgbClr val="000066"/>
                </a:solidFill>
                <a:latin typeface="Verdana"/>
                <a:ea typeface="宋体"/>
              </a:rPr>
              <a:t>次晨头晕、乏力、困倦等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Verdana"/>
                <a:ea typeface="宋体"/>
              </a:rPr>
              <a:t>2</a:t>
            </a:r>
            <a:r>
              <a:rPr b="1" lang="zh-CN" sz="2000" spc="-1" strike="noStrike">
                <a:solidFill>
                  <a:srgbClr val="cc0000"/>
                </a:solidFill>
                <a:latin typeface="Verdana"/>
                <a:ea typeface="宋体"/>
              </a:rPr>
              <a:t>．反常兴奋：</a:t>
            </a:r>
            <a:r>
              <a:rPr b="1" lang="zh-CN" sz="2000" spc="-1" strike="noStrike">
                <a:solidFill>
                  <a:srgbClr val="000066"/>
                </a:solidFill>
                <a:latin typeface="Verdana"/>
                <a:ea typeface="宋体"/>
              </a:rPr>
              <a:t>兴奋、不安、严重时谵妄，以老年人常见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Verdana"/>
                <a:ea typeface="宋体"/>
              </a:rPr>
              <a:t>3</a:t>
            </a:r>
            <a:r>
              <a:rPr b="1" lang="zh-CN" sz="2000" spc="-1" strike="noStrike">
                <a:solidFill>
                  <a:srgbClr val="cc0000"/>
                </a:solidFill>
                <a:latin typeface="Verdana"/>
                <a:ea typeface="宋体"/>
              </a:rPr>
              <a:t>．过敏反应</a:t>
            </a:r>
            <a:r>
              <a:rPr b="1" lang="zh-CN" sz="2000" spc="-1" strike="noStrike">
                <a:solidFill>
                  <a:srgbClr val="000066"/>
                </a:solidFill>
                <a:latin typeface="Verdana"/>
                <a:ea typeface="宋体"/>
              </a:rPr>
              <a:t>：有过敏史者禁用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Verdana"/>
                <a:ea typeface="宋体"/>
              </a:rPr>
              <a:t>4</a:t>
            </a:r>
            <a:r>
              <a:rPr b="1" lang="zh-CN" sz="2000" spc="-1" strike="noStrike">
                <a:solidFill>
                  <a:srgbClr val="cc0000"/>
                </a:solidFill>
                <a:latin typeface="Verdana"/>
                <a:ea typeface="宋体"/>
              </a:rPr>
              <a:t>．严重呼吸系统疾病者：</a:t>
            </a:r>
            <a:r>
              <a:rPr b="1" lang="zh-CN" sz="2000" spc="-1" strike="noStrike">
                <a:solidFill>
                  <a:srgbClr val="000066"/>
                </a:solidFill>
                <a:latin typeface="Verdana"/>
                <a:ea typeface="宋体"/>
              </a:rPr>
              <a:t>应密切观察呼吸频率和节律，注意口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66"/>
                </a:solidFill>
                <a:latin typeface="Verdana"/>
                <a:ea typeface="宋体"/>
              </a:rPr>
              <a:t>     </a:t>
            </a:r>
            <a:r>
              <a:rPr b="1" lang="zh-CN" sz="2000" spc="-1" strike="noStrike">
                <a:solidFill>
                  <a:srgbClr val="000066"/>
                </a:solidFill>
                <a:latin typeface="Verdana"/>
                <a:ea typeface="宋体"/>
              </a:rPr>
              <a:t>唇、指甲有无缺氧引起发绀等表现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Verdana"/>
                <a:ea typeface="宋体"/>
              </a:rPr>
              <a:t>5</a:t>
            </a:r>
            <a:r>
              <a:rPr b="1" lang="zh-CN" sz="2000" spc="-1" strike="noStrike">
                <a:solidFill>
                  <a:srgbClr val="cc0000"/>
                </a:solidFill>
                <a:latin typeface="Verdana"/>
                <a:ea typeface="宋体"/>
              </a:rPr>
              <a:t>．嘱服药患者：</a:t>
            </a:r>
            <a:r>
              <a:rPr b="1" lang="zh-CN" sz="2000" spc="-1" strike="noStrike">
                <a:solidFill>
                  <a:srgbClr val="000066"/>
                </a:solidFill>
                <a:latin typeface="Verdana"/>
                <a:ea typeface="宋体"/>
              </a:rPr>
              <a:t>不要驾车、操作机器或登高作业，避免药物后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66"/>
                </a:solidFill>
                <a:latin typeface="Verdana"/>
                <a:ea typeface="宋体"/>
              </a:rPr>
              <a:t>     </a:t>
            </a:r>
            <a:r>
              <a:rPr b="1" lang="zh-CN" sz="2000" spc="-1" strike="noStrike">
                <a:solidFill>
                  <a:srgbClr val="000066"/>
                </a:solidFill>
                <a:latin typeface="Verdana"/>
                <a:ea typeface="宋体"/>
              </a:rPr>
              <a:t>遗效应产生事故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Verdana"/>
                <a:ea typeface="宋体"/>
              </a:rPr>
              <a:t>6</a:t>
            </a:r>
            <a:r>
              <a:rPr b="1" lang="zh-CN" sz="2000" spc="-1" strike="noStrike">
                <a:solidFill>
                  <a:srgbClr val="cc0000"/>
                </a:solidFill>
                <a:latin typeface="Verdana"/>
                <a:ea typeface="宋体"/>
              </a:rPr>
              <a:t>．服药时：</a:t>
            </a:r>
            <a:r>
              <a:rPr b="1" lang="zh-CN" sz="2000" spc="-1" strike="noStrike">
                <a:solidFill>
                  <a:srgbClr val="000066"/>
                </a:solidFill>
                <a:latin typeface="Verdana"/>
                <a:ea typeface="宋体"/>
              </a:rPr>
              <a:t>不可饮酒，否则会损伤判断力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Verdana"/>
                <a:ea typeface="宋体"/>
              </a:rPr>
              <a:t>7</a:t>
            </a:r>
            <a:r>
              <a:rPr b="1" lang="zh-CN" sz="2000" spc="-1" strike="noStrike">
                <a:solidFill>
                  <a:srgbClr val="cc0000"/>
                </a:solidFill>
                <a:latin typeface="Verdana"/>
                <a:ea typeface="宋体"/>
              </a:rPr>
              <a:t>．耐药及依赖性</a:t>
            </a:r>
            <a:r>
              <a:rPr b="1" lang="zh-CN" sz="2000" spc="-1" strike="noStrike">
                <a:solidFill>
                  <a:srgbClr val="000066"/>
                </a:solidFill>
                <a:latin typeface="Verdana"/>
                <a:ea typeface="宋体"/>
              </a:rPr>
              <a:t>：一旦停药可产生戒断反应，应短期用药，停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66"/>
                </a:solidFill>
                <a:latin typeface="Verdana"/>
                <a:ea typeface="宋体"/>
              </a:rPr>
              <a:t>     </a:t>
            </a:r>
            <a:r>
              <a:rPr b="1" lang="zh-CN" sz="2000" spc="-1" strike="noStrike">
                <a:solidFill>
                  <a:srgbClr val="000066"/>
                </a:solidFill>
                <a:latin typeface="Verdana"/>
                <a:ea typeface="宋体"/>
              </a:rPr>
              <a:t>药应逐渐停用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Verdana"/>
                <a:ea typeface="宋体"/>
              </a:rPr>
              <a:t>8</a:t>
            </a:r>
            <a:r>
              <a:rPr b="1" lang="zh-CN" sz="2000" spc="-1" strike="noStrike">
                <a:solidFill>
                  <a:srgbClr val="cc0000"/>
                </a:solidFill>
                <a:latin typeface="Verdana"/>
                <a:ea typeface="宋体"/>
              </a:rPr>
              <a:t>．其他</a:t>
            </a:r>
            <a:r>
              <a:rPr b="1" lang="zh-CN" sz="2000" spc="-1" strike="noStrike">
                <a:solidFill>
                  <a:srgbClr val="000066"/>
                </a:solidFill>
                <a:latin typeface="Verdana"/>
                <a:ea typeface="宋体"/>
              </a:rPr>
              <a:t>：对心血管、肝、呼吸系统均有一定的不良反应。偶见粒细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66"/>
                </a:solidFill>
                <a:latin typeface="Verdana"/>
                <a:ea typeface="宋体"/>
              </a:rPr>
              <a:t>     </a:t>
            </a:r>
            <a:r>
              <a:rPr b="1" lang="zh-CN" sz="2000" spc="-1" strike="noStrike">
                <a:solidFill>
                  <a:srgbClr val="000066"/>
                </a:solidFill>
                <a:latin typeface="Verdana"/>
                <a:ea typeface="宋体"/>
              </a:rPr>
              <a:t>胞缺乏症，血小板减少性紫癜等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Verdana"/>
                <a:ea typeface="宋体"/>
              </a:rPr>
              <a:t>9</a:t>
            </a:r>
            <a:r>
              <a:rPr b="1" lang="zh-CN" sz="2000" spc="-1" strike="noStrike">
                <a:solidFill>
                  <a:srgbClr val="cc0000"/>
                </a:solidFill>
                <a:latin typeface="Verdana"/>
                <a:ea typeface="宋体"/>
              </a:rPr>
              <a:t>．急性中毒</a:t>
            </a:r>
            <a:r>
              <a:rPr b="1" lang="en-US" sz="2000" spc="-1" strike="noStrike">
                <a:solidFill>
                  <a:srgbClr val="cc0000"/>
                </a:solidFill>
                <a:latin typeface="Verdana"/>
                <a:ea typeface="宋体"/>
              </a:rPr>
              <a:t>(</a:t>
            </a:r>
            <a:r>
              <a:rPr b="1" lang="zh-CN" sz="2000" spc="-1" strike="noStrike">
                <a:solidFill>
                  <a:srgbClr val="cc0000"/>
                </a:solidFill>
                <a:latin typeface="Verdana"/>
                <a:ea typeface="宋体"/>
              </a:rPr>
              <a:t>见下页</a:t>
            </a:r>
            <a:r>
              <a:rPr b="1" lang="en-US" sz="2000" spc="-1" strike="noStrike">
                <a:solidFill>
                  <a:srgbClr val="cc0000"/>
                </a:solidFill>
                <a:latin typeface="Verdana"/>
                <a:ea typeface="宋体"/>
              </a:rPr>
              <a:t>)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edg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9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．急性中毒及抢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24000" y="1557000"/>
            <a:ext cx="8208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Verdana"/>
                <a:ea typeface="宋体"/>
              </a:rPr>
              <a:t>⑴</a:t>
            </a:r>
            <a:r>
              <a:rPr b="1" lang="zh-CN" sz="3200" spc="-1" strike="noStrike">
                <a:solidFill>
                  <a:srgbClr val="cc0000"/>
                </a:solidFill>
                <a:latin typeface="Verdana"/>
                <a:ea typeface="宋体"/>
              </a:rPr>
              <a:t>中毒症状：</a:t>
            </a:r>
            <a:r>
              <a:rPr b="1" lang="zh-CN" sz="2800" spc="-1" strike="noStrike">
                <a:solidFill>
                  <a:srgbClr val="000066"/>
                </a:solidFill>
                <a:latin typeface="Verdana"/>
                <a:ea typeface="宋体"/>
              </a:rPr>
              <a:t>过量使用可引起中毒，血压下降，严重时昏迷，可导致死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Verdana"/>
                <a:ea typeface="宋体"/>
              </a:rPr>
              <a:t>⑵</a:t>
            </a:r>
            <a:r>
              <a:rPr b="1" lang="zh-CN" sz="3200" spc="-1" strike="noStrike">
                <a:solidFill>
                  <a:srgbClr val="cc0000"/>
                </a:solidFill>
                <a:latin typeface="Verdana"/>
                <a:ea typeface="宋体"/>
              </a:rPr>
              <a:t>抢救措施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①</a:t>
            </a:r>
            <a:r>
              <a:rPr b="1" lang="zh-CN" sz="3200" spc="-1" strike="noStrike">
                <a:solidFill>
                  <a:srgbClr val="cc0000"/>
                </a:solidFill>
                <a:latin typeface="Verdana"/>
                <a:ea typeface="宋体"/>
              </a:rPr>
              <a:t>排除毒物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Verdana"/>
                <a:ea typeface="宋体"/>
              </a:rPr>
              <a:t>洗胃、给予盐类泻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Verdana"/>
                <a:ea typeface="宋体"/>
              </a:rPr>
              <a:t>给利尿剂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Verdana"/>
                <a:ea typeface="宋体"/>
              </a:rPr>
              <a:t>注射碳酸氢钠使尿碱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Verdana"/>
                <a:ea typeface="宋体"/>
              </a:rPr>
              <a:t>必要时可输血或血液透析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②</a:t>
            </a:r>
            <a:r>
              <a:rPr b="1" lang="zh-CN" sz="3200" spc="-1" strike="noStrike">
                <a:solidFill>
                  <a:srgbClr val="cc0000"/>
                </a:solidFill>
                <a:latin typeface="Verdana"/>
                <a:ea typeface="宋体"/>
              </a:rPr>
              <a:t>对症治疗：</a:t>
            </a:r>
            <a:r>
              <a:rPr b="1" lang="zh-CN" sz="3200" spc="-1" strike="noStrike">
                <a:solidFill>
                  <a:srgbClr val="000066"/>
                </a:solidFill>
                <a:latin typeface="Verdana"/>
                <a:ea typeface="宋体"/>
              </a:rPr>
              <a:t>维持呼吸和血压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知识链接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4000" y="1196640"/>
            <a:ext cx="86104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021"/>
                </a:solidFill>
                <a:latin typeface="Verdana"/>
                <a:ea typeface="黑体"/>
              </a:rPr>
              <a:t>生理睡眠与反跳现象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正常生理睡眠分为非快动眼睡眠（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NREMS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）和快动眼睡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眠（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REMS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）两个时相。两个时相交替出现，形成睡眠周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b12217"/>
                </a:solidFill>
                <a:latin typeface="Verdana"/>
                <a:ea typeface="宋体"/>
              </a:rPr>
              <a:t>如果药物（如巴比妥类药物）缩短</a:t>
            </a:r>
            <a:r>
              <a:rPr b="1" lang="en-US" sz="2400" spc="-1" strike="noStrike">
                <a:solidFill>
                  <a:srgbClr val="b12217"/>
                </a:solidFill>
                <a:latin typeface="Verdana"/>
                <a:ea typeface="宋体"/>
              </a:rPr>
              <a:t>REMS</a:t>
            </a:r>
            <a:r>
              <a:rPr b="1" lang="zh-CN" sz="2400" spc="-1" strike="noStrike">
                <a:solidFill>
                  <a:srgbClr val="b12217"/>
                </a:solidFill>
                <a:latin typeface="Verdana"/>
                <a:ea typeface="宋体"/>
              </a:rPr>
              <a:t>时相，久用停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b12217"/>
                </a:solidFill>
                <a:latin typeface="Verdana"/>
                <a:ea typeface="宋体"/>
              </a:rPr>
              <a:t>可出现</a:t>
            </a:r>
            <a:r>
              <a:rPr b="1" lang="en-US" sz="2400" spc="-1" strike="noStrike">
                <a:solidFill>
                  <a:srgbClr val="b12217"/>
                </a:solidFill>
                <a:latin typeface="Verdana"/>
                <a:ea typeface="宋体"/>
              </a:rPr>
              <a:t>REMS</a:t>
            </a:r>
            <a:r>
              <a:rPr b="1" lang="zh-CN" sz="2400" spc="-1" strike="noStrike">
                <a:solidFill>
                  <a:srgbClr val="b12217"/>
                </a:solidFill>
                <a:latin typeface="Verdana"/>
                <a:ea typeface="宋体"/>
              </a:rPr>
              <a:t>时相反跳性延长，出现多梦和焦虑现象即反跳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b12217"/>
                </a:solidFill>
                <a:latin typeface="Verdana"/>
                <a:ea typeface="宋体"/>
              </a:rPr>
              <a:t>象，导致患者有继续用药的愿望，易产生依赖性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7" name="Rectangle 4"/>
          <p:cNvSpPr/>
          <p:nvPr/>
        </p:nvSpPr>
        <p:spPr>
          <a:xfrm>
            <a:off x="826920" y="3068640"/>
            <a:ext cx="3313440" cy="1800360"/>
          </a:xfrm>
          <a:prstGeom prst="rect">
            <a:avLst/>
          </a:prstGeom>
          <a:noFill/>
          <a:ln w="9360">
            <a:solidFill>
              <a:srgbClr val="a50021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12217"/>
                </a:solidFill>
                <a:latin typeface="Arial"/>
                <a:ea typeface="宋体"/>
              </a:rPr>
              <a:t>          </a:t>
            </a:r>
            <a:r>
              <a:rPr b="1" lang="en-US" sz="2400" spc="-1" strike="noStrike">
                <a:solidFill>
                  <a:srgbClr val="b12217"/>
                </a:solidFill>
                <a:latin typeface="Arial"/>
                <a:ea typeface="宋体"/>
              </a:rPr>
              <a:t>NREMS</a:t>
            </a:r>
            <a:r>
              <a:rPr b="1" lang="zh-CN" sz="2400" spc="-1" strike="noStrike">
                <a:solidFill>
                  <a:srgbClr val="b12217"/>
                </a:solidFill>
                <a:latin typeface="Arial"/>
                <a:ea typeface="宋体"/>
              </a:rPr>
              <a:t>时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呼吸、循环稳定，无眼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球的运动，有助于体力恢复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和生长发育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Rectangle 5"/>
          <p:cNvSpPr/>
          <p:nvPr/>
        </p:nvSpPr>
        <p:spPr>
          <a:xfrm>
            <a:off x="4643280" y="3068640"/>
            <a:ext cx="3816360" cy="1728720"/>
          </a:xfrm>
          <a:prstGeom prst="rect">
            <a:avLst/>
          </a:prstGeom>
          <a:noFill/>
          <a:ln w="9360">
            <a:solidFill>
              <a:srgbClr val="a50021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12217"/>
                </a:solidFill>
                <a:latin typeface="Arial"/>
                <a:ea typeface="宋体"/>
              </a:rPr>
              <a:t>               </a:t>
            </a:r>
            <a:r>
              <a:rPr b="1" lang="en-US" sz="2400" spc="-1" strike="noStrike">
                <a:solidFill>
                  <a:srgbClr val="b12217"/>
                </a:solidFill>
                <a:latin typeface="Arial"/>
                <a:ea typeface="宋体"/>
              </a:rPr>
              <a:t>REMS</a:t>
            </a:r>
            <a:r>
              <a:rPr b="1" lang="zh-CN" sz="2400" spc="-1" strike="noStrike">
                <a:solidFill>
                  <a:srgbClr val="b12217"/>
                </a:solidFill>
                <a:latin typeface="Arial"/>
                <a:ea typeface="宋体"/>
              </a:rPr>
              <a:t>时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呼吸、循环功能加强，眼球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运动活跃，翻身、手足徐动、多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梦等，有利于智力恢复和发育。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edg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五、药物相互作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24000" y="2276280"/>
            <a:ext cx="8610480" cy="313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17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Verdana"/>
                <a:ea typeface="宋体"/>
              </a:rPr>
              <a:t>巴比妥类与乙醇或其他中枢神经系统抑制剂均有协同作用，甚至加重毒性反应，因此不宜联合应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7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Verdana"/>
                <a:ea typeface="宋体"/>
              </a:rPr>
              <a:t>巴比妥类有肝药酶诱导作用，不仅加速其本身的代谢，还可加速香豆素类抗凝药、苯妥英钠和皮质激素等的代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edg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第三节   其他镇静催眠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61048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spcAft>
                <a:spcPts val="22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Verdana"/>
                <a:ea typeface="宋体"/>
              </a:rPr>
              <a:t>思诺思</a:t>
            </a:r>
            <a:r>
              <a:rPr b="1" lang="zh-CN" sz="3600" spc="-1" strike="noStrike">
                <a:solidFill>
                  <a:srgbClr val="cc0000"/>
                </a:solidFill>
                <a:latin typeface="Times New Roman"/>
                <a:ea typeface="宋体"/>
              </a:rPr>
              <a:t>（</a:t>
            </a:r>
            <a:r>
              <a:rPr b="1" lang="en-US" sz="3600" spc="-1" strike="noStrike">
                <a:solidFill>
                  <a:srgbClr val="cc0000"/>
                </a:solidFill>
                <a:latin typeface="Times New Roman"/>
                <a:ea typeface="宋体"/>
              </a:rPr>
              <a:t>stilnox</a:t>
            </a:r>
            <a:r>
              <a:rPr b="1" lang="zh-CN" sz="3600" spc="-1" strike="noStrike">
                <a:solidFill>
                  <a:srgbClr val="cc0000"/>
                </a:solidFill>
                <a:latin typeface="Times New Roman"/>
                <a:ea typeface="宋体"/>
              </a:rPr>
              <a:t>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cc0000"/>
                </a:solidFill>
                <a:latin typeface="Verdana"/>
                <a:ea typeface="宋体"/>
              </a:rPr>
              <a:t>作用特点：</a:t>
            </a:r>
            <a:r>
              <a:rPr b="1" lang="zh-CN" sz="2400" spc="-1" strike="noStrike">
                <a:solidFill>
                  <a:srgbClr val="000066"/>
                </a:solidFill>
                <a:latin typeface="Verdana"/>
                <a:ea typeface="宋体"/>
              </a:rPr>
              <a:t>可缩短入睡时间，减少中途觉醒次数，延长睡眠时间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cc0000"/>
                </a:solidFill>
                <a:latin typeface="Verdana"/>
                <a:ea typeface="宋体"/>
              </a:rPr>
              <a:t>临床应用：</a:t>
            </a:r>
            <a:r>
              <a:rPr b="1" lang="zh-CN" sz="2400" spc="-1" strike="noStrike">
                <a:solidFill>
                  <a:srgbClr val="000066"/>
                </a:solidFill>
                <a:latin typeface="Verdana"/>
                <a:ea typeface="宋体"/>
              </a:rPr>
              <a:t>偶发性、暂时性及慢性失眠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cc0000"/>
                </a:solidFill>
                <a:latin typeface="Verdana"/>
                <a:ea typeface="宋体"/>
              </a:rPr>
              <a:t>不良反应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Verdana"/>
                <a:ea typeface="宋体"/>
              </a:rPr>
              <a:t>常见：眩晕、嗜睡、乏力、恶心、头痛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Verdana"/>
                <a:ea typeface="宋体"/>
              </a:rPr>
              <a:t>少见：记忆障碍、恶梦、烦躁、腹泻及精神压抑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Verdana"/>
                <a:ea typeface="宋体"/>
              </a:rPr>
              <a:t>耐药性：较少见，但不主张长期服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Verdana"/>
                <a:ea typeface="宋体"/>
              </a:rPr>
              <a:t>禁用：孕妇、哺乳期妇女、</a:t>
            </a:r>
            <a:r>
              <a:rPr b="1" lang="en-US" sz="2400" spc="-1" strike="noStrike">
                <a:solidFill>
                  <a:srgbClr val="000066"/>
                </a:solidFill>
                <a:latin typeface="Verdana"/>
                <a:ea typeface="宋体"/>
              </a:rPr>
              <a:t>15</a:t>
            </a:r>
            <a:r>
              <a:rPr b="1" lang="zh-CN" sz="2400" spc="-1" strike="noStrike">
                <a:solidFill>
                  <a:srgbClr val="000066"/>
                </a:solidFill>
                <a:latin typeface="Verdana"/>
                <a:ea typeface="宋体"/>
              </a:rPr>
              <a:t>岁以下儿童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Verdana"/>
                <a:ea typeface="宋体"/>
              </a:rPr>
              <a:t>慎用：肝功能不良、呼吸功能不良以及肌无力患者、操作机 械及驾车者应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edg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24000" y="1341360"/>
            <a:ext cx="86104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1001"/>
              </a:spcBef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佐匹克隆（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Zopiclone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1</a:t>
            </a:r>
            <a:r>
              <a:rPr b="1" lang="en-US" sz="2400" spc="-1" strike="noStrike">
                <a:solidFill>
                  <a:srgbClr val="cc0000"/>
                </a:solidFill>
                <a:latin typeface="Verdana"/>
                <a:ea typeface="宋体"/>
              </a:rPr>
              <a:t>.</a:t>
            </a:r>
            <a:r>
              <a:rPr b="1" lang="zh-CN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作用特点：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此药吸收快，达峰时间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0.5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1.0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小时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,</a:t>
            </a:r>
            <a:r>
              <a:rPr b="1" i="1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 t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Times New Roman"/>
                <a:ea typeface="宋体"/>
              </a:rPr>
              <a:t>1/2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为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5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6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小时，肝硬化及老年患者可延长至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8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小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2.</a:t>
            </a:r>
            <a:r>
              <a:rPr b="1" lang="zh-CN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临床应用：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各种失眠，对入睡时间的缩短，睡眠时间延长以及睡眠质量的提高均有效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3.</a:t>
            </a:r>
            <a:r>
              <a:rPr b="1" lang="zh-CN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不良反应：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少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部分病人：口干、口苦、恶心、便秘、晨间嗜睡、肌无力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长期用药：突然停药可出现戒断症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禁用：严重呼吸功能不全，本药过敏者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慎用：孕妇及哺乳期妇女，肝功能不良者慎用或减量服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edg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知识链接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8200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349"/>
              </a:spcBef>
              <a:spcAft>
                <a:spcPts val="22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Verdana"/>
                <a:ea typeface="宋体"/>
              </a:rPr>
              <a:t>精神药品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精神药品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是指作用于中枢神经系统使之兴奋或者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制，具有依赖性潜力，不合理使用或者滥用可以产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药物依赖性的药品或者物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分类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分为第一类精神药品和第二类精神药品，其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产、运输、经营及储存均要严格按照国务院颁布的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麻醉药品和精神药品管理条例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执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三唑仑、司可巴比妥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属于第一类精神药品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其余（佐匹克隆除外）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均为第二类精神药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edg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思考题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33520" y="2492280"/>
            <a:ext cx="861048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．为什么说地西泮是目前临床最常用的催眠药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．如何预防地西泮产生耐受性和依赖性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3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．巴比妥类药物急性中毒的抢救措施有哪些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         </a:t>
            </a: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常用镇静催眠药分类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719440" y="1814400"/>
            <a:ext cx="475128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b12217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b12217"/>
                </a:solidFill>
                <a:latin typeface="Verdana"/>
                <a:ea typeface="宋体"/>
              </a:rPr>
              <a:t>苯二氮卓类：地西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b12217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b12217"/>
                </a:solidFill>
                <a:latin typeface="Verdana"/>
                <a:ea typeface="宋体"/>
              </a:rPr>
              <a:t>巴比妥类：苯巴比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b12217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b12217"/>
                </a:solidFill>
                <a:latin typeface="Verdana"/>
                <a:ea typeface="宋体"/>
              </a:rPr>
              <a:t>新型催眠药：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酒石酸唑吡坦片（</a:t>
            </a:r>
            <a:r>
              <a:rPr b="1" lang="zh-CN" sz="2800" spc="-1" strike="noStrike">
                <a:solidFill>
                  <a:srgbClr val="b12217"/>
                </a:solidFill>
                <a:latin typeface="Verdana"/>
                <a:ea typeface="宋体"/>
              </a:rPr>
              <a:t>思诺思）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第一节 苯二氮卓类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839484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Verdana"/>
                <a:ea typeface="宋体"/>
              </a:rPr>
              <a:t>常用药物</a:t>
            </a:r>
            <a:r>
              <a:rPr b="1" lang="en-US" sz="3200" spc="-1" strike="noStrike">
                <a:solidFill>
                  <a:srgbClr val="cc0000"/>
                </a:solidFill>
                <a:latin typeface="Verdana"/>
                <a:ea typeface="宋体"/>
              </a:rPr>
              <a:t>--</a:t>
            </a:r>
            <a:r>
              <a:rPr b="1" lang="zh-CN" sz="3200" spc="-1" strike="noStrike">
                <a:solidFill>
                  <a:srgbClr val="cc0000"/>
                </a:solidFill>
                <a:latin typeface="Verdana"/>
                <a:ea typeface="宋体"/>
              </a:rPr>
              <a:t>各种苯二氮卓类药物作用相似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cc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地西泮（安定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cc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氯氮卓（利眠宁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cc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硝西泮（硝基安定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cc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艾司唑仑（舒乐安定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cc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阿普唑仑（佳静安定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4932360" y="2708280"/>
            <a:ext cx="3313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a50021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氯硝西泮（氯硝安定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a50021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氟西泮（氟安定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a50021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三唑仑（海乐神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a50021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劳拉西泮（罗拉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a50021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奥沙西泮（舒宁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4000" y="1125360"/>
            <a:ext cx="77040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Verdana"/>
                <a:ea typeface="宋体"/>
              </a:rPr>
              <a:t>（一）体内过程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50560" y="1773360"/>
            <a:ext cx="83516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1049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口服易吸收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小时血药浓度达峰值，但肌内注射吸收慢，如需肌注可选用氯销安定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1049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与血浆蛋白结合，其结合率约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99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BDZ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吸收后，迅速为脑组织及其其他器官摄取，然后再分布至肌肉、脂肪等组织；可通过胎盘，进入胎儿循环，影响新生儿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1049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由肝代谢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1049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经肾排泄，也可经母乳、胆汁排泄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1049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半衰期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1/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成人约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小时；新生儿由于肝功能发育不完善，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1/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延长可达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0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小时；老年人、肝肾疾患者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1/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可延长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Rectangle 4"/>
          <p:cNvSpPr/>
          <p:nvPr/>
        </p:nvSpPr>
        <p:spPr>
          <a:xfrm>
            <a:off x="90000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一、 地西泮（安定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2503080" y="2606400"/>
            <a:ext cx="504036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．抗焦虑作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．镇静催眠作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．抗惊厥和抗癫痫作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．中枢骨骼肌松弛作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．其他作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Rectangle 4"/>
          <p:cNvSpPr/>
          <p:nvPr/>
        </p:nvSpPr>
        <p:spPr>
          <a:xfrm>
            <a:off x="4385160" y="302760"/>
            <a:ext cx="347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（二）药理作用和作用机制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宋体"/>
                <a:ea typeface="宋体"/>
              </a:rPr>
              <a:t>1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．抗焦虑作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50920" y="1988640"/>
            <a:ext cx="8610480" cy="44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1500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Verdana"/>
                <a:ea typeface="宋体"/>
              </a:rPr>
              <a:t>小剂量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能减轻或消除焦虑不安，精神紧张及恐惧，对各种原因引起的焦虑症状有显著疗效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1500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Verdana"/>
                <a:ea typeface="宋体"/>
              </a:rPr>
              <a:t>作用机制：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BDZ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与中枢神经系统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r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氨基丁酸（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GABA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）能神经末梢的突触后膜上的苯二氮卓受体结合后，可改变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GABA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调控蛋白的构象，增强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GABA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与其受体的亲和力，激活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GABA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受体，使氯离子通道开放，增强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GABA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能神经的抑制效应。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BDZ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药物增强中枢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GABA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递质的抑制作用与其镇静、抗焦虑、催眠、抗惊厥及中枢性肌松作用密切相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2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．镇静催眠作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50920" y="1483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Verdana"/>
                <a:ea typeface="宋体"/>
              </a:rPr>
              <a:t>中等剂量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镇静催眠作用明显，对各期睡眠均有不同程度的影响。可缩短入睡时间，延长睡眠持续时间，减少觉醒次数目前已是临床最常用催眠药。 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Verdana"/>
                <a:ea typeface="宋体"/>
              </a:rPr>
              <a:t>优点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与巴比妥类催眠药相比较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3" name="AutoShape 4"/>
          <p:cNvSpPr/>
          <p:nvPr/>
        </p:nvSpPr>
        <p:spPr>
          <a:xfrm>
            <a:off x="2411280" y="3860640"/>
            <a:ext cx="5400720" cy="2448000"/>
          </a:xfrm>
          <a:prstGeom prst="wedgeRectCallout">
            <a:avLst>
              <a:gd name="adj1" fmla="val -72486"/>
              <a:gd name="adj2" fmla="val -69129"/>
            </a:avLst>
          </a:prstGeom>
          <a:solidFill>
            <a:srgbClr val="c4e3ee"/>
          </a:solidFill>
          <a:ln w="9360">
            <a:solidFill>
              <a:srgbClr val="a50021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cc0000"/>
                </a:solidFill>
                <a:latin typeface="Arial"/>
                <a:ea typeface="宋体"/>
              </a:rPr>
              <a:t>① 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对呼吸影响小，大剂量不引起麻醉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cc0000"/>
                </a:solidFill>
                <a:latin typeface="Arial"/>
                <a:ea typeface="宋体"/>
              </a:rPr>
              <a:t>② 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对肝药酶无诱导作用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cc0000"/>
                </a:solidFill>
                <a:latin typeface="Arial"/>
                <a:ea typeface="宋体"/>
              </a:rPr>
              <a:t>③ 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嗜睡等副作用轻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cc0000"/>
                </a:solidFill>
                <a:latin typeface="Arial"/>
                <a:ea typeface="宋体"/>
              </a:rPr>
              <a:t>④ 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耐受性和依赖性轻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cc0000"/>
                </a:solidFill>
                <a:latin typeface="Arial"/>
                <a:ea typeface="宋体"/>
              </a:rPr>
              <a:t>⑤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停药后反跳现象比巴比妥类轻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sxm</cp:lastModifiedBy>
  <cp:lastPrinted>1899-12-30T00:00:00Z</cp:lastPrinted>
  <dcterms:modified xsi:type="dcterms:W3CDTF">2016-03-11T01:42:23Z</dcterms:modified>
  <cp:revision>24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